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.wmf" ContentType="image/x-wmf"/>
  <Override PartName="/ppt/media/image32.wmf" ContentType="image/x-wmf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wmf" ContentType="image/x-wmf"/>
  <Override PartName="/ppt/media/image16.jpeg" ContentType="image/jpeg"/>
  <Override PartName="/ppt/media/image35.wmf" ContentType="image/x-wmf"/>
  <Override PartName="/ppt/media/image7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37.jpeg" ContentType="image/jpeg"/>
  <Override PartName="/ppt/media/image8.wmf" ContentType="image/x-wmf"/>
  <Override PartName="/ppt/media/image38.jpeg" ContentType="image/jpeg"/>
  <Override PartName="/ppt/media/image44.jpeg" ContentType="image/jpeg"/>
  <Override PartName="/ppt/media/image39.jpeg" ContentType="image/jpeg"/>
  <Override PartName="/ppt/media/image45.jpeg" ContentType="image/jpeg"/>
  <Override PartName="/ppt/media/image14.jpeg" ContentType="image/jpeg"/>
  <Override PartName="/ppt/media/image41.jpeg" ContentType="image/jpeg"/>
  <Override PartName="/ppt/media/image42.jpeg" ContentType="image/jpeg"/>
  <Override PartName="/ppt/media/image4.wmf" ContentType="image/x-wmf"/>
  <Override PartName="/ppt/media/image34.wmf" ContentType="image/x-wmf"/>
  <Override PartName="/ppt/media/image43.jpeg" ContentType="image/jpeg"/>
  <Override PartName="/ppt/media/image12.wmf" ContentType="image/x-wmf"/>
  <Override PartName="/ppt/media/image6.wmf" ContentType="image/x-wmf"/>
  <Override PartName="/ppt/media/image10.jpeg" ContentType="image/jpe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3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1.png" ContentType="image/png"/>
  <Override PartName="/ppt/media/image3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87B4-D07C-4E54-B740-3F531F5F9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kins was passed in August 2006 for a 6 year period –FY2012.  States have three years in which to implement a program of study in districts receiving Perkins doll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11E5-1AD3-4724-8117-AB67ABCD4B9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district may select an area other than FCS in which to create a program of study but that does not mean that it is not something you should ignore. You need to be at the table.  You can lead the way by creating a program a study within your department and most likely you offer a course in your program that will support other programs of study.  Programs of study just make good se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45CC-6E92-4E12-9656-2466E21773DD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-out 30 Second Elevator Spee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7877-14BE-4D79-91D4-1F2076DA4576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s then? 1909 or what year? How does life expectancy tie into what FCS has accomplish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1F78-DE38-4838-92E3-708B7C6439C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A366-723F-4444-B98A-409F6C200E9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we define Program of Study?  Perkins requires that districts offer students Programs of Study that   1. include coherent &amp; rigorous CTE content aligned with challenging academic standards  2.  provide students the opportunity to participate in dual or concurrent enrollment programs or other ways to acquire postsecondary credits 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Lead to an industry recognized credenti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hanged end of year to end of program assessments.  Students who have completed 3 credits in a sequence will be the ones required to take the tes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2451-4D17-497A-999D-9663BC9FEBE7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5534-D69B-4A82-B62C-BF741877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EE5C-A6C8-4D21-9D11-EC17AF58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AA73-5431-4DFB-BE9F-B16D015C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8FB4-BDE1-46C2-B43C-D4537CB9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5D46-FC36-4896-AA4B-F0E78E49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D39B-AE14-452A-B582-B796EEEA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717D-5B80-4418-8A81-392FDE06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1B8D-A317-4D5E-9DA5-7B5DDCE9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3E0F-5C62-45B9-BF5B-A03AE0F9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6E2D-13F7-4AC4-9BFA-C90BC1B1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10AF-E2FD-4C56-91B4-2D90B231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0D0A-F815-44EA-BF5E-60C8FEB3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0086-700A-49D8-A900-AEADBD0D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549B-C25D-4ADA-A8AB-D9A4F3CC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F336-E4E1-448B-A58A-4048923D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3D00-ABA3-4329-9802-23805DD7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EAC0-EE35-4A75-9575-09538295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A6DE2-A0F9-42F0-9B69-A1570E7F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66067-DBA8-45B1-BF5E-D3754188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B98EE-8DBA-4C03-BCE6-63801888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F6319-7D4E-4486-8719-F9DFB983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82397-FCBA-47CF-956F-1F9878DE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55C9-E771-485F-8FFF-8B85BAE0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042C6-7F0D-4F6A-99FB-053A7783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88CFC-1AE8-4921-8B7B-6B8BEEB0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9E927-5503-4DDA-80E3-A7440105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F4F91-2464-4496-8164-07309206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1A198-CA51-4833-A998-90D817DB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62000-A545-48F1-8C5C-A816153B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36436-1B9A-47C5-BE58-20C8B657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1D34-2C4D-4019-83CD-FD651DBA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BE99-3806-4E07-8014-32AC95CD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675F-62A1-4E24-9B48-1F47CA66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C2F3-8926-488C-AC50-CBFABB31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9475-A296-4D67-838A-7767D03F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5D2C-23FD-43F4-8350-E026EE29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11160" y="-3240"/>
            <a:ext cx="9166320" cy="6897600"/>
            <a:chOff x="-11160" y="-3240"/>
            <a:chExt cx="9166320" cy="6897600"/>
          </a:xfrm>
        </p:grpSpPr>
        <p:grpSp>
          <p:nvGrpSpPr>
            <p:cNvPr id="1" name="Group 19"/>
            <p:cNvGrpSpPr/>
            <p:nvPr/>
          </p:nvGrpSpPr>
          <p:grpSpPr>
            <a:xfrm>
              <a:off x="-11160" y="15840"/>
              <a:ext cx="9166320" cy="6878520"/>
              <a:chOff x="-11160" y="15840"/>
              <a:chExt cx="9166320" cy="6878520"/>
            </a:xfrm>
          </p:grpSpPr>
          <p:sp>
            <p:nvSpPr>
              <p:cNvPr id="2" name="Freeform 8"/>
              <p:cNvSpPr/>
              <p:nvPr/>
            </p:nvSpPr>
            <p:spPr>
              <a:xfrm>
                <a:off x="-11160" y="1836720"/>
                <a:ext cx="2268720" cy="2709720"/>
              </a:xfrm>
              <a:prstGeom prst="pie">
                <a:avLst/>
              </a:prstGeom>
              <a:gradFill rotWithShape="0">
                <a:gsLst>
                  <a:gs pos="0">
                    <a:srgbClr val="7176bb"/>
                  </a:gs>
                  <a:gs pos="100000">
                    <a:srgbClr val="00007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3" name="Freeform 9"/>
              <p:cNvSpPr/>
              <p:nvPr/>
            </p:nvSpPr>
            <p:spPr>
              <a:xfrm>
                <a:off x="108000" y="15840"/>
                <a:ext cx="838080" cy="787320"/>
              </a:xfrm>
              <a:prstGeom prst="pie">
                <a:avLst/>
              </a:prstGeom>
              <a:gradFill rotWithShape="0">
                <a:gsLst>
                  <a:gs pos="0">
                    <a:srgbClr val="fcab40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4" name="Freeform 10"/>
              <p:cNvSpPr/>
              <p:nvPr/>
            </p:nvSpPr>
            <p:spPr>
              <a:xfrm>
                <a:off x="1192320" y="353880"/>
                <a:ext cx="2266920" cy="227016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" name="Freeform 11"/>
              <p:cNvSpPr/>
              <p:nvPr/>
            </p:nvSpPr>
            <p:spPr>
              <a:xfrm>
                <a:off x="2532240" y="1270080"/>
                <a:ext cx="3670200" cy="367164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6" name="Freeform 13"/>
              <p:cNvSpPr/>
              <p:nvPr/>
            </p:nvSpPr>
            <p:spPr>
              <a:xfrm>
                <a:off x="3240" y="4797360"/>
                <a:ext cx="3417840" cy="2097000"/>
              </a:xfrm>
              <a:prstGeom prst="pie">
                <a:avLst/>
              </a:prstGeom>
              <a:solidFill>
                <a:srgbClr val="000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" name="Freeform 14"/>
              <p:cNvSpPr/>
              <p:nvPr/>
            </p:nvSpPr>
            <p:spPr>
              <a:xfrm>
                <a:off x="4494240" y="4425840"/>
                <a:ext cx="2263680" cy="226404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" name="Freeform 15"/>
              <p:cNvSpPr/>
              <p:nvPr/>
            </p:nvSpPr>
            <p:spPr>
              <a:xfrm>
                <a:off x="5646600" y="487440"/>
                <a:ext cx="2928960" cy="293040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" name="Freeform 16"/>
              <p:cNvSpPr/>
              <p:nvPr/>
            </p:nvSpPr>
            <p:spPr>
              <a:xfrm>
                <a:off x="7147080" y="2556000"/>
                <a:ext cx="2008080" cy="399708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555ba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pic>
          <p:nvPicPr>
            <p:cNvPr id="10" name="Picture 12" descr="Facbanna"/>
            <p:cNvPicPr/>
            <p:nvPr/>
          </p:nvPicPr>
          <p:blipFill>
            <a:blip r:embed="rId2"/>
            <a:stretch/>
          </p:blipFill>
          <p:spPr>
            <a:xfrm>
              <a:off x="3240" y="-3240"/>
              <a:ext cx="803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7176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2F5D-5A2E-44E2-B8A6-82BD75D3FB31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6715-456F-4645-9697-C42562E52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3"/>
          <p:cNvGrpSpPr/>
          <p:nvPr/>
        </p:nvGrpSpPr>
        <p:grpSpPr>
          <a:xfrm>
            <a:off x="-11160" y="-3240"/>
            <a:ext cx="9166320" cy="6897600"/>
            <a:chOff x="-11160" y="-3240"/>
            <a:chExt cx="9166320" cy="6897600"/>
          </a:xfrm>
        </p:grpSpPr>
        <p:grpSp>
          <p:nvGrpSpPr>
            <p:cNvPr id="94" name="Group 22"/>
            <p:cNvGrpSpPr/>
            <p:nvPr/>
          </p:nvGrpSpPr>
          <p:grpSpPr>
            <a:xfrm>
              <a:off x="-11160" y="-360"/>
              <a:ext cx="9166320" cy="6894720"/>
              <a:chOff x="-11160" y="-360"/>
              <a:chExt cx="9166320" cy="6894720"/>
            </a:xfrm>
          </p:grpSpPr>
          <p:sp>
            <p:nvSpPr>
              <p:cNvPr id="95" name="Freeform 3"/>
              <p:cNvSpPr/>
              <p:nvPr/>
            </p:nvSpPr>
            <p:spPr>
              <a:xfrm>
                <a:off x="-11160" y="1836720"/>
                <a:ext cx="2268720" cy="2709720"/>
              </a:xfrm>
              <a:prstGeom prst="pie">
                <a:avLst/>
              </a:prstGeom>
              <a:gradFill rotWithShape="0">
                <a:gsLst>
                  <a:gs pos="0">
                    <a:srgbClr val="7176bb"/>
                  </a:gs>
                  <a:gs pos="100000">
                    <a:srgbClr val="00007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6" name="Freeform 4"/>
              <p:cNvSpPr/>
              <p:nvPr/>
            </p:nvSpPr>
            <p:spPr>
              <a:xfrm>
                <a:off x="108000" y="15840"/>
                <a:ext cx="838080" cy="787320"/>
              </a:xfrm>
              <a:prstGeom prst="pie">
                <a:avLst/>
              </a:prstGeom>
              <a:gradFill rotWithShape="0">
                <a:gsLst>
                  <a:gs pos="0">
                    <a:srgbClr val="fcab40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7" name="Freeform 5"/>
              <p:cNvSpPr/>
              <p:nvPr/>
            </p:nvSpPr>
            <p:spPr>
              <a:xfrm>
                <a:off x="1192320" y="353880"/>
                <a:ext cx="2266920" cy="227016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8" name="Freeform 6"/>
              <p:cNvSpPr/>
              <p:nvPr/>
            </p:nvSpPr>
            <p:spPr>
              <a:xfrm>
                <a:off x="2532240" y="1270080"/>
                <a:ext cx="3670200" cy="367164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9" name="Freeform 8"/>
              <p:cNvSpPr/>
              <p:nvPr/>
            </p:nvSpPr>
            <p:spPr>
              <a:xfrm>
                <a:off x="3240" y="4797360"/>
                <a:ext cx="3417840" cy="2097000"/>
              </a:xfrm>
              <a:prstGeom prst="pie">
                <a:avLst/>
              </a:prstGeom>
              <a:solidFill>
                <a:srgbClr val="000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0" name="Freeform 9"/>
              <p:cNvSpPr/>
              <p:nvPr/>
            </p:nvSpPr>
            <p:spPr>
              <a:xfrm>
                <a:off x="4494240" y="4425840"/>
                <a:ext cx="2263680" cy="226404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1" name="Freeform 10"/>
              <p:cNvSpPr/>
              <p:nvPr/>
            </p:nvSpPr>
            <p:spPr>
              <a:xfrm>
                <a:off x="5646600" y="487440"/>
                <a:ext cx="2928960" cy="293040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2" name="Freeform 11"/>
              <p:cNvSpPr/>
              <p:nvPr/>
            </p:nvSpPr>
            <p:spPr>
              <a:xfrm>
                <a:off x="7147080" y="2556000"/>
                <a:ext cx="2008080" cy="399708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555ba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3" name="Freeform 19"/>
              <p:cNvSpPr/>
              <p:nvPr/>
            </p:nvSpPr>
            <p:spPr>
              <a:xfrm rot="16200000">
                <a:off x="3977280" y="-853200"/>
                <a:ext cx="1722600" cy="342900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555ba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pic>
          <p:nvPicPr>
            <p:cNvPr id="104" name="Picture 7" descr="Facbanna"/>
            <p:cNvPicPr/>
            <p:nvPr/>
          </p:nvPicPr>
          <p:blipFill>
            <a:blip r:embed="rId2"/>
            <a:stretch/>
          </p:blipFill>
          <p:spPr>
            <a:xfrm>
              <a:off x="3240" y="-3240"/>
              <a:ext cx="803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7176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5060-A496-4E1F-8139-9191EE3AF830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images.google.com/imgres?imgurl=http://session2005.adventist.org/media-kit/photos/st_louis/st_louis-arch-sky_blue.jpg&amp;imgrefurl=http://session2005.adventist.org/media-kit/photos/st_louis/index.html&amp;h=3024&amp;w=2016&amp;sz=1787&amp;hl=en&amp;start=4&amp;tbnid=iWfIB4GPnEtdpM:&amp;tbnh=150&amp;tbnw=100&amp;prev=/images%3Fq%3Dst%2Blouis%2Barch%26gbv%3D2%26hl%3Den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ing-to-lead.org/userimages/leadership(1).jpg&amp;imgrefurl=http://fatihtepe.com/&amp;h=316&amp;w=448&amp;sz=60&amp;hl=en&amp;start=3&amp;um=1&amp;tbnid=ne0Qwx0-w9pSyM:&amp;tbnh=90&amp;tbnw=127&amp;prev=/images%3Fq%3Dleadership%26um%3D1%26hl%3Den%26rls%3Dcom.microsoft:en-us%26sa%3DX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nchgeneralstore.com/bags/img/bag.jpg&amp;imgrefurl=http://www.frenchgeneralstore.com/bags/bags.html&amp;h=550&amp;w=396&amp;sz=103&amp;hl=en&amp;start=7&amp;um=1&amp;tbnid=67rj-Ktz9NJW4M:&amp;tbnh=133&amp;tbnw=96&amp;prev=/images%3Fq%3Dbag%26um%3D1%26hl%3Den%26sa%3DN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images.google.com/imgres?imgurl=http://www.geekalerts.com/u/small-boombox-bag.jpg&amp;imgrefurl=http://www.geekalerts.com/boombox-bags-for-retro-geeks/&amp;h=435&amp;w=350&amp;sz=30&amp;hl=en&amp;start=2&amp;um=1&amp;tbnid=Y8nqX9RmV4sLeM:&amp;tbnh=126&amp;tbnw=101&amp;prev=/images%3Fq%3Dbag%26um%3D1%26hl%3Den%26sa%3DN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images.google.com/imgres?imgurl=http://www.marloscrochetcorner.com/images/10-4%2520cm%2520felt%2520bag.jpg&amp;imgrefurl=http://www.marloscrochetcorner.com/patterns%2520for%2520sale.html&amp;h=364&amp;w=400&amp;sz=37&amp;hl=en&amp;start=24&amp;um=1&amp;tbnid=2y1g1QiPy2l5HM:&amp;tbnh=113&amp;tbnw=124&amp;prev=/images%3Fq%3Dbag%26start%3D20%26ndsp%3D20%26um%3D1%26hl%3Den%26sa%3DN" TargetMode="External"/><Relationship Id="rId6" Type="http://schemas.openxmlformats.org/officeDocument/2006/relationships/image" Target="../media/image40.jpeg"/><Relationship Id="rId7" Type="http://schemas.openxmlformats.org/officeDocument/2006/relationships/hyperlink" Target="http://images.google.com/imgres?imgurl=http://www.inprintmarden.co.uk/images/bag-manufacturer-uk.jpg&amp;imgrefurl=http://www.inprintmarden.co.uk/bag-manufacturer.html&amp;h=323&amp;w=354&amp;sz=21&amp;hl=en&amp;start=35&amp;um=1&amp;tbnid=NsR4GWh-j3uo2M:&amp;tbnh=110&amp;tbnw=121&amp;prev=/images%3Fq%3Dbag%26start%3D20%26ndsp%3D20%26um%3D1%26hl%3Den%26sa%3DN" TargetMode="External"/><Relationship Id="rId8" Type="http://schemas.openxmlformats.org/officeDocument/2006/relationships/image" Target="../media/image41.jpeg"/><Relationship Id="rId9" Type="http://schemas.openxmlformats.org/officeDocument/2006/relationships/hyperlink" Target="http://images.google.com/imgres?imgurl=http://www.clowncostumes.com/images/Prop%2520Bag.jpg&amp;imgrefurl=http://www.clowncostumes.com/clown_bags_banners.htm&amp;h=951&amp;w=1200&amp;sz=131&amp;hl=en&amp;start=43&amp;um=1&amp;tbnid=2p87YQ2lt5ZazM:&amp;tbnh=119&amp;tbnw=150&amp;prev=/images%3Fq%3Dbag%26start%3D40%26ndsp%3D20%26um%3D1%26hl%3Den%26sa%3DN" TargetMode="External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Synchronize Your Gears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What gear are you in?</a:t>
            </a:r>
            <a:br>
              <a:rPr sz="4400"/>
            </a:b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The Relationships of Career Clusters and Program of Study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Cluster – NATIONAL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Human Services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www.careerclusters.org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n organizing tool that groups occupations and careers based on common knowledge and skill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Path – STATE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Human Services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Missouri’s model for career development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Pathway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Early Childhood Development &amp; Services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Listings of occupations that share advanced technical skills and/or common roles within a career cluster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gram of Study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To be developed at the local level.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 systematic framework for a new way of doing business in our high schools, colleges, and universitie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ersonal Plan of Study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To be developed at the local level for individual student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 student’s scope and sequence of coursework and co-curricular experience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hat does this mean….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A student’s personal plan of study should reflect a program of study, but it should also be individualized for that student’s career interest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t’s more than a job, it’s a career choice for student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is provides our students with opportunities to focus on a career path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Establishing career path relevance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can help to justify your program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7" name="Picture 4" descr="MCj02853980000[1]"/>
          <p:cNvPicPr/>
          <p:nvPr/>
        </p:nvPicPr>
        <p:blipFill>
          <a:blip r:embed="rId1"/>
          <a:stretch/>
        </p:blipFill>
        <p:spPr>
          <a:xfrm>
            <a:off x="6019920" y="4003560"/>
            <a:ext cx="26668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How Does FCCLA Fit In?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CCLA incorporated into a personal plan of study can develop personal qualities such as leadership and teamwork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eadership skills that students learn in your classroom through FCCLA activities can be assessed and used to further justify your program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0" name="Picture 4" descr="taglinelogobw"/>
          <p:cNvPicPr/>
          <p:nvPr/>
        </p:nvPicPr>
        <p:blipFill>
          <a:blip r:embed="rId1"/>
          <a:stretch/>
        </p:blipFill>
        <p:spPr>
          <a:xfrm>
            <a:off x="3657600" y="4876920"/>
            <a:ext cx="297180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TARGET DATE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-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TARGET DATE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e target date for the implementation of this process…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Within the next 3 year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3" name="Picture 4" descr="ages"/>
          <p:cNvPicPr/>
          <p:nvPr/>
        </p:nvPicPr>
        <p:blipFill>
          <a:blip r:embed="rId1"/>
          <a:stretch/>
        </p:blipFill>
        <p:spPr>
          <a:xfrm>
            <a:off x="5486400" y="2971800"/>
            <a:ext cx="2514600" cy="2125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N3KX8CAO1DRGHCA65ZR4ECA6NNZJBCAPF6DPJCAID6VGGCAVSPFNQCATCUPW5CANK0UI6CAPPUXC0CA83NXNTCAYBVN19CAWRPZ4FCAUL1BR8CAQFL40ECA460HRHCAPLJJ2ZCAJWT2K6CAJN9APOCAV2XA96"/>
          <p:cNvPicPr/>
          <p:nvPr/>
        </p:nvPicPr>
        <p:blipFill>
          <a:blip r:embed="rId2"/>
          <a:stretch/>
        </p:blipFill>
        <p:spPr>
          <a:xfrm>
            <a:off x="2209680" y="3505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What does this mean for you?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Refresh, Energize, and Unite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You don’t have to make these changes on your own…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amily and Consumer Sciences teachers will have the opportunity to support and encourage each other in the design and implementation of curriculum and programs of study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7" name="Picture 4" descr="MCj02379820000[1]"/>
          <p:cNvPicPr/>
          <p:nvPr/>
        </p:nvPicPr>
        <p:blipFill>
          <a:blip r:embed="rId1"/>
          <a:stretch/>
        </p:blipFill>
        <p:spPr>
          <a:xfrm>
            <a:off x="4724280" y="3962520"/>
            <a:ext cx="312444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ll Family and Consumer Sciences programs across the state will be united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IN THIS TOGETHER!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mall and Large Family &amp; Consumer Science Program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ural, Urban, and Inner City Family &amp; Consumer Science Program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9" name="Picture 6" descr="KA22JCAYULATOCAJ9Y5QVCAXQO69NCA127KQGCAXFX2U9CAQA24O8CAM50AJDCA2P8R81CAMG58MPCAT0ORYACA651NGDCAAB7JI3CAJ8LBYYCA3Z11VOCA2AQR1NCA3KYJAJCAUF809PCA5UBS87CA5SVI35"/>
          <p:cNvPicPr/>
          <p:nvPr/>
        </p:nvPicPr>
        <p:blipFill>
          <a:blip r:embed="rId1"/>
          <a:stretch/>
        </p:blipFill>
        <p:spPr>
          <a:xfrm>
            <a:off x="3276720" y="4495680"/>
            <a:ext cx="1752480" cy="1419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st_louis-arch-sky_blu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4419720"/>
            <a:ext cx="1206360" cy="1809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DPI7JCADLX7EWCAL2NOD2CA2EKG8KCARBIC7YCAURL5YICABW5MOJCA1YJ7MQCADRR6HNCAKFZ2FZCAZG41K7CA1WRN5OCA43D3OECA7889OXCAEPTWIXCAILUET6CAS8CQ69CAGBRITLCAO03D32CAH132TI"/>
          <p:cNvPicPr/>
          <p:nvPr/>
        </p:nvPicPr>
        <p:blipFill>
          <a:blip r:embed="rId4"/>
          <a:stretch/>
        </p:blipFill>
        <p:spPr>
          <a:xfrm>
            <a:off x="1371600" y="4495680"/>
            <a:ext cx="1523880" cy="1449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VQ156CA09EYTJCA0UB7N5CAJYZ1Q0CACYQ0KDCAYEZT4QCANJSCUHCAB8ZC2PCAO64N32CAGXU9MWCA6IH695CAK2YOH0CAKGSTBUCANGSPB6CAIPINF3CAMG0UNGCARKEJEBCAPQ99NTCAFQOSTTCAHT5ZJB"/>
          <p:cNvPicPr/>
          <p:nvPr/>
        </p:nvPicPr>
        <p:blipFill>
          <a:blip r:embed="rId5"/>
          <a:stretch/>
        </p:blipFill>
        <p:spPr>
          <a:xfrm>
            <a:off x="6705720" y="449568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Reinforcing What We’re Already Using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Use scoring guides to assess your lessons to increase depth of learning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REE Scoring guides are available at mcce.org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igor, Relevance, and Relationship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ritical Thinking Skill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CCLA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5" name="Picture 4" descr="bd04996_"/>
          <p:cNvPicPr/>
          <p:nvPr/>
        </p:nvPicPr>
        <p:blipFill>
          <a:blip r:embed="rId1"/>
          <a:stretch/>
        </p:blipFill>
        <p:spPr>
          <a:xfrm>
            <a:off x="5410080" y="4191120"/>
            <a:ext cx="24386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e Want To Challenge You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Get into gear…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Arial Narrow"/>
              </a:rPr>
              <a:t>As Missouri seamlessly adopts the National Standards, this means…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Narrow"/>
              </a:rPr>
              <a:t>You will have fewer but broader standards to teach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Narrow"/>
              </a:rPr>
              <a:t>More individuality in lesson                   plan design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8" name="Picture 4" descr="MCj04315260000[1]"/>
          <p:cNvPicPr/>
          <p:nvPr/>
        </p:nvPicPr>
        <p:blipFill>
          <a:blip r:embed="rId1"/>
          <a:stretch/>
        </p:blipFill>
        <p:spPr>
          <a:xfrm>
            <a:off x="5029200" y="1295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MCj04315260000[1]"/>
          <p:cNvPicPr/>
          <p:nvPr/>
        </p:nvPicPr>
        <p:blipFill>
          <a:blip r:embed="rId2"/>
          <a:stretch/>
        </p:blipFill>
        <p:spPr>
          <a:xfrm>
            <a:off x="7010280" y="46483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914400" y="228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 Narrow"/>
              </a:rPr>
              <a:t>It is imperative that what you teach builds a family foundation AND leads to a career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et it be known that what you are teaching…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Leads to a care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s part of the solution to family life issues that are happening all over the nation 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1" name="WordArt 5"/>
          <p:cNvSpPr txBox="1"/>
          <p:nvPr/>
        </p:nvSpPr>
        <p:spPr>
          <a:xfrm>
            <a:off x="380880" y="3733920"/>
            <a:ext cx="2657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ankrupc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12" name="WordArt 6"/>
          <p:cNvSpPr txBox="1"/>
          <p:nvPr/>
        </p:nvSpPr>
        <p:spPr>
          <a:xfrm>
            <a:off x="304920" y="3352680"/>
            <a:ext cx="1523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bes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WordArt 8"/>
          <p:cNvSpPr txBox="1"/>
          <p:nvPr/>
        </p:nvSpPr>
        <p:spPr>
          <a:xfrm>
            <a:off x="6019920" y="5257800"/>
            <a:ext cx="2514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i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nage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14" name="WordArt 9"/>
          <p:cNvSpPr txBox="1"/>
          <p:nvPr/>
        </p:nvSpPr>
        <p:spPr>
          <a:xfrm>
            <a:off x="3657600" y="3809880"/>
            <a:ext cx="1295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vorc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10"/>
          <p:cNvSpPr txBox="1"/>
          <p:nvPr/>
        </p:nvSpPr>
        <p:spPr>
          <a:xfrm>
            <a:off x="1295280" y="4724280"/>
            <a:ext cx="24386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hild Abus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6" name="WordArt 11"/>
          <p:cNvSpPr txBox="1"/>
          <p:nvPr/>
        </p:nvSpPr>
        <p:spPr>
          <a:xfrm>
            <a:off x="3962520" y="4952880"/>
            <a:ext cx="25905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ubstance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bus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6172200" y="3733920"/>
            <a:ext cx="2343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ncarceration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7720" y="137124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hat does YOUR community need?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ind out…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dvisory committe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Career data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Employability skills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igh Skill, High Wage, or High Demand occupations is our target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 need to teach what data indicates is needed, not what we traditionally like or are comfortable teaching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Data Drives What is Taugh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pic>
        <p:nvPicPr>
          <p:cNvPr id="220" name="Picture 8" descr="RIWRHCAFJF3Z1CARSCU7HCATVDOL7CA5B49H0CASH1CV8CAM37U0XCA1RC9XFCA3S3O5MCAGSU2ARCAQCNIRRCAUPCPSCCAVMMXT2CAQ2CUQSCAG14RI1CA42CGX5CAJXRJOECALH64IOCAZAR1XWCAFW0UNK"/>
          <p:cNvPicPr/>
          <p:nvPr/>
        </p:nvPicPr>
        <p:blipFill>
          <a:blip r:embed="rId1"/>
          <a:stretch/>
        </p:blipFill>
        <p:spPr>
          <a:xfrm>
            <a:off x="6019920" y="1676520"/>
            <a:ext cx="266688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The Big Picture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Where we’ve been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Where we are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Where we are going. 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7" name="Picture 4" descr="MCj02313910000[1]"/>
          <p:cNvPicPr/>
          <p:nvPr/>
        </p:nvPicPr>
        <p:blipFill>
          <a:blip r:embed="rId1"/>
          <a:stretch/>
        </p:blipFill>
        <p:spPr>
          <a:xfrm>
            <a:off x="5029200" y="1523880"/>
            <a:ext cx="373392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ork of the Family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e ultimate human servic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100% demand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23" name="Picture 5" descr="FamilyFrontPage3"/>
          <p:cNvPicPr/>
          <p:nvPr/>
        </p:nvPicPr>
        <p:blipFill>
          <a:blip r:embed="rId1"/>
          <a:stretch/>
        </p:blipFill>
        <p:spPr>
          <a:xfrm>
            <a:off x="3886200" y="2590920"/>
            <a:ext cx="464832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Know Your Stuff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30 Second Elevator Speech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Be ready to talk with counselor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Be ready to talk with administrator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Be ready to talk with parent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Be ready to talk with student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Be ready……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26" name="Picture 4" descr="3TSYQCARCJ1G2CAVGRQ0BCADZSKRQCA3877UUCALFWBDGCA61S3T2CA4HMWCOCAVWBYETCA7NSICTCAM9JST5CASE2FEFCAYZ14WICANMFAB4CA83QU6BCAI41ICHCAODU7LOCADFE3Y2CAK1C6FTCA3P8DW7"/>
          <p:cNvPicPr/>
          <p:nvPr/>
        </p:nvPicPr>
        <p:blipFill>
          <a:blip r:embed="rId1"/>
          <a:stretch/>
        </p:blipFill>
        <p:spPr>
          <a:xfrm>
            <a:off x="4876920" y="4419720"/>
            <a:ext cx="28191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Elevator Speech / 30 Second Speech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omponents of Work &amp; Family Life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Relationship Skill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Human Development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Health &amp; Wellnes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inancial Competence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Leadership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Critical Thinking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Problem Solving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29" name="Picture 4" descr="IRR3UCAFYGNYHCA98KZ8CCACUNYOBCA2LZNBLCAWGCPN2CAHV66OECAEZB272CAR92KMQCANXO3ZMCAXCK262CAUV6UGYCALGIEMRCACZK6I6CAOLSH9MCAHPK6PJCATGIHPRCATQ6NR3CA4MXKHACAC24BIA"/>
          <p:cNvPicPr/>
          <p:nvPr/>
        </p:nvPicPr>
        <p:blipFill>
          <a:blip r:embed="rId1"/>
          <a:stretch/>
        </p:blipFill>
        <p:spPr>
          <a:xfrm>
            <a:off x="5181480" y="2362320"/>
            <a:ext cx="1868760" cy="1952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j0329925"/>
          <p:cNvPicPr/>
          <p:nvPr/>
        </p:nvPicPr>
        <p:blipFill>
          <a:blip r:embed="rId2"/>
          <a:stretch/>
        </p:blipFill>
        <p:spPr>
          <a:xfrm>
            <a:off x="5638680" y="4038480"/>
            <a:ext cx="274320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066680" y="304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tudents can explore several career clusters and are employed in a variety of job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Human Service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Education &amp; Training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Hospitality &amp; Tourism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Art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Manufacturing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Sale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32" name="Picture 4" descr="UDZ3PCAUS0MQ5CA43GLUKCAVWMJZ5CAW0OEUZCAB9YOLPCAW5NPP0CAFO9NJ2CA7V937KCAO6SOQQCA9GUYBYCAFPO3A2CATU02M5CAMLV86SCADUMPXFCACSKM05CAXXM53SCATLDVS3CAIZ4FYQCA018TOO"/>
          <p:cNvPicPr/>
          <p:nvPr/>
        </p:nvPicPr>
        <p:blipFill>
          <a:blip r:embed="rId1"/>
          <a:stretch/>
        </p:blipFill>
        <p:spPr>
          <a:xfrm>
            <a:off x="5029200" y="23623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AMNEOCASG2CAVCAX1X1XFCAX3Z83SCAU8NWQKCAYS4QUICASTI24QCAM4BUQMCA6Q3I0LCAS9Y68VCA2ZER88CAKLRJ7BCAEGYCEDCAN3HF2ZCAGF9BUTCAGKWEI5CA7A1PM5CAEWOB40CAOI0XWTCA0ICG4G"/>
          <p:cNvPicPr/>
          <p:nvPr/>
        </p:nvPicPr>
        <p:blipFill>
          <a:blip r:embed="rId2"/>
          <a:stretch/>
        </p:blipFill>
        <p:spPr>
          <a:xfrm>
            <a:off x="1447920" y="46483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FAQ4CCAPZBGGOCAZ9HRU5CA1T2EOBCALR7PQ0CASH2V79CATB7VQBCAVGY2ETCADNRCB4CAIVGMCWCAGXSUH9CATU0YGTCAKPAGP4CAACVPJMCAQHC1C6CAQ408HYCAXEQ3VJCAG4Z75PCASNWGH2CA1P0QKO"/>
          <p:cNvPicPr/>
          <p:nvPr/>
        </p:nvPicPr>
        <p:blipFill>
          <a:blip r:embed="rId3"/>
          <a:stretch/>
        </p:blipFill>
        <p:spPr>
          <a:xfrm>
            <a:off x="5029200" y="5029200"/>
            <a:ext cx="1038240" cy="1123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GFX08CA0M8CTOCA36LM1QCAJ7U9WICAT9B22XCANWO6XSCA28S1KICA0PSAPDCA3W0J20CAEI8TNBCA91UQHWCAPB31M3CAF4ZD5WCA12V7P8CAR6TZLZCAENSF28CAH0W1T8CALOJFASCAT7Y5I3CA3Z6RBX"/>
          <p:cNvPicPr/>
          <p:nvPr/>
        </p:nvPicPr>
        <p:blipFill>
          <a:blip r:embed="rId4"/>
          <a:stretch/>
        </p:blipFill>
        <p:spPr>
          <a:xfrm>
            <a:off x="3429000" y="40384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SG2C0CAJLHTYHCA0GLTBVCA26RHZICA0U4RWXCAGW4EQ1CA81AR1GCAA6YB07CAQWGGP5CAAGJ9Q9CAYO1ES1CAXEA151CA2XBBWTCA2SNXO1CANK7AW9CA75G9MHCASHHYX2CAHW64X3CAAZ4XYVCACZGEFL"/>
          <p:cNvPicPr/>
          <p:nvPr/>
        </p:nvPicPr>
        <p:blipFill>
          <a:blip r:embed="rId5"/>
          <a:stretch/>
        </p:blipFill>
        <p:spPr>
          <a:xfrm>
            <a:off x="6629400" y="4724280"/>
            <a:ext cx="1828800" cy="12924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IRR3UCAFYGNYHCA98KZ8CCACUNYOBCA2LZNBLCAWGCPN2CAHV66OECAEZB272CAR92KMQCANXO3ZMCAXCK262CAUV6UGYCALGIEMRCACZK6I6CAOLSH9MCAHPK6PJCATGIHPRCATQ6NR3CA4MXKHACAC24BIA"/>
          <p:cNvPicPr/>
          <p:nvPr/>
        </p:nvPicPr>
        <p:blipFill>
          <a:blip r:embed="rId6"/>
          <a:stretch/>
        </p:blipFill>
        <p:spPr>
          <a:xfrm>
            <a:off x="6705720" y="1066680"/>
            <a:ext cx="186840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9907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n addition, an integral part of the Family and Consumer Sciences curriculum is the student organization Family, Career &amp; Community Leaders of America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Learning leadership skills through FCCLA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39" name="Picture 4" descr="IRR3UCAFYGNYHCA98KZ8CCACUNYOBCA2LZNBLCAWGCPN2CAHV66OECAEZB272CAR92KMQCANXO3ZMCAXCK262CAUV6UGYCALGIEMRCACZK6I6CAOLSH9MCAHPK6PJCATGIHPRCATQ6NR3CA4MXKHACAC24BIA"/>
          <p:cNvPicPr/>
          <p:nvPr/>
        </p:nvPicPr>
        <p:blipFill>
          <a:blip r:embed="rId1"/>
          <a:stretch/>
        </p:blipFill>
        <p:spPr>
          <a:xfrm>
            <a:off x="2057400" y="3886200"/>
            <a:ext cx="1868400" cy="1952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taglinelogobw"/>
          <p:cNvPicPr/>
          <p:nvPr/>
        </p:nvPicPr>
        <p:blipFill>
          <a:blip r:embed="rId2"/>
          <a:stretch/>
        </p:blipFill>
        <p:spPr>
          <a:xfrm>
            <a:off x="4495680" y="4038480"/>
            <a:ext cx="29718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Gear Up For Regional Training…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Programs of Study Module Training Seminars will be offered throughout the region. Be watching for upcoming training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gram &amp; Courses – A New Look &amp; Curriculum Writing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grams of Study Models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istory &amp; Rationale for Chang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eadership Skill Developme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ow to Develop a Program of Stud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reating Articulation Agreement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43" name="Picture 4" descr="MCj02295630000[1]"/>
          <p:cNvPicPr/>
          <p:nvPr/>
        </p:nvPicPr>
        <p:blipFill>
          <a:blip r:embed="rId1"/>
          <a:stretch/>
        </p:blipFill>
        <p:spPr>
          <a:xfrm>
            <a:off x="5867280" y="3886200"/>
            <a:ext cx="289584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Program &amp; Courses – A New Look &amp; Curriculum Writing</a:t>
            </a:r>
            <a:br>
              <a:rPr sz="4000"/>
            </a:b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this training module, you will learn…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here to find market data (used to drive your program)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ow to contact your technical prep person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vailability of developed Programs of Study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haring programs of study district to district, school to schoo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You don’t have to re-invent the whe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ligning curriculum to Missouri Competencies and National Standard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Making sure that you include rigor,                                     relevance, and relationships in your                              curriculum offerings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46" name="Picture 6" descr="pinochet_got_rigor"/>
          <p:cNvPicPr/>
          <p:nvPr/>
        </p:nvPicPr>
        <p:blipFill>
          <a:blip r:embed="rId1"/>
          <a:stretch/>
        </p:blipFill>
        <p:spPr>
          <a:xfrm>
            <a:off x="6248520" y="4419720"/>
            <a:ext cx="1641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Leadership Skill Development</a:t>
            </a:r>
            <a:br>
              <a:rPr sz="4000"/>
            </a:b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n this training module you will learn about…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Core Leadership Skills Components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he student benefits of leadership skill development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he community/school benefits of leadership skills development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Be sure to attend the leadership skill module as we have new specific leadership skills that need to be taught and assessed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9" name="WordArt 9"/>
          <p:cNvSpPr txBox="1"/>
          <p:nvPr/>
        </p:nvSpPr>
        <p:spPr>
          <a:xfrm>
            <a:off x="3276720" y="4691160"/>
            <a:ext cx="4286160" cy="21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adership Skill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50" name="Picture 10" descr="MCj03121240000[1]"/>
          <p:cNvPicPr/>
          <p:nvPr/>
        </p:nvPicPr>
        <p:blipFill>
          <a:blip r:embed="rId3"/>
          <a:stretch/>
        </p:blipFill>
        <p:spPr>
          <a:xfrm>
            <a:off x="1295280" y="5181480"/>
            <a:ext cx="137160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How to Develop a Program of Study</a:t>
            </a:r>
            <a:br>
              <a:rPr sz="4000"/>
            </a:b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this training module you will learn…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 10 step process to implementing the program of study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tart to finish, how to put a program of study in place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How to recognize gaps and                                          overlaps in your current curriculum                             offerings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53" name="Object 6"/>
          <p:cNvGraphicFramePr/>
          <p:nvPr/>
        </p:nvGraphicFramePr>
        <p:xfrm>
          <a:off x="5343480" y="1676520"/>
          <a:ext cx="317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3480" y="1676520"/>
                    <a:ext cx="317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History &amp; Rationale for Change</a:t>
            </a:r>
            <a:br>
              <a:rPr sz="4000"/>
            </a:b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this training module you will learn about…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 reasons for the chang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ederal, State, and Perkins legislation is driving these changes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ocietal changes drives curriculum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Labor market data drives what is being taught and offered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uture will be family focused, career focused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Increase rigor, relevance, and relationships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Improves Family and Consumer Sciences programs to prepare students for a viable career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57" name="Picture 4" descr="MCj02974190000[1]"/>
          <p:cNvPicPr/>
          <p:nvPr/>
        </p:nvPicPr>
        <p:blipFill>
          <a:blip r:embed="rId1"/>
          <a:stretch/>
        </p:blipFill>
        <p:spPr>
          <a:xfrm>
            <a:off x="4952880" y="4648320"/>
            <a:ext cx="320040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Family &amp; Consumer Sciences –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Impact"/>
              </a:rPr>
              <a:t>Be proud of what’s been accomplished!</a:t>
            </a:r>
            <a:endParaRPr b="0" lang="en-US" sz="36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 Narrow"/>
              </a:rPr>
              <a:t>Then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 Narrow"/>
              </a:rPr>
              <a:t>Now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 Narrow"/>
              </a:rPr>
              <a:t>Life Expectancy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47.3 years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77.8 year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 Narrow"/>
              </a:rPr>
              <a:t>Education Beyond High School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.9%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26.6%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 Narrow"/>
              </a:rPr>
              <a:t>Goals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mprove Quality of Life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Prepare students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   for the work of     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    the family and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career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2438280" y="2895480"/>
            <a:ext cx="487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2286000" y="4038480"/>
            <a:ext cx="487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2286000" y="5486400"/>
            <a:ext cx="487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Creating Articulation Agreements</a:t>
            </a:r>
            <a:br>
              <a:rPr sz="4000"/>
            </a:b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this training module you will get information regarding the benefits and process of articulation: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Looking at how articulation will help you to develop your programs of study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Recognize that this is a good thing for our students and our state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his will help you to get administrative support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his will enable you to formulate collaborative groups to approach universities and junior/community colleges together to match up credit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60" name="Picture 5" descr="MCj02953560000[1]"/>
          <p:cNvPicPr/>
          <p:nvPr/>
        </p:nvPicPr>
        <p:blipFill>
          <a:blip r:embed="rId1"/>
          <a:stretch/>
        </p:blipFill>
        <p:spPr>
          <a:xfrm>
            <a:off x="5181480" y="4648320"/>
            <a:ext cx="1424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Programs of Study Models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- THE FINAL LINK -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n this training module, you will learn…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How to put together all of the training pieces you’ve learned at the different training module workshops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ow the components of the program of study will work for students in the community where you teach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Making a seamless educational program offering your students more opportunities.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elping students link current coursework with possible career pathways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63" name="Picture 4" descr="MCj02808030000[1]"/>
          <p:cNvPicPr/>
          <p:nvPr/>
        </p:nvPicPr>
        <p:blipFill>
          <a:blip r:embed="rId1"/>
          <a:stretch/>
        </p:blipFill>
        <p:spPr>
          <a:xfrm>
            <a:off x="4724280" y="5257800"/>
            <a:ext cx="1600200" cy="1270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MCj02808030000[1]"/>
          <p:cNvPicPr/>
          <p:nvPr/>
        </p:nvPicPr>
        <p:blipFill>
          <a:blip r:embed="rId2"/>
          <a:stretch/>
        </p:blipFill>
        <p:spPr>
          <a:xfrm>
            <a:off x="6934320" y="457200"/>
            <a:ext cx="160020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So….now what?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What do we do with all of 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this information?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4876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ritical thinking, problem solving, and the process skills are still just as important as ever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y are the </a:t>
            </a: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foundation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f our curriculum.  It’s easy to say we are using these skills every day in our classrooms but are we REALLY?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e we challenging our students each and every day to be an innovative and authentic learner?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67" name="Picture 6" descr="NowWhat"/>
          <p:cNvPicPr/>
          <p:nvPr/>
        </p:nvPicPr>
        <p:blipFill>
          <a:blip r:embed="rId1"/>
          <a:stretch/>
        </p:blipFill>
        <p:spPr>
          <a:xfrm>
            <a:off x="5867280" y="2514600"/>
            <a:ext cx="2921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4267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t’s important that as leaders in the model for what education </a:t>
            </a: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should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be that each and every one of us remains constant in our teaching of these skills – remember we are models to others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 want to maintain our status as leaders of innovative thinking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Each person needs to stay diligent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69" name="Picture 5" descr="leadership(1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2362320"/>
            <a:ext cx="30481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Be a Gear Head – Bag Your Stuff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Be sure to keep all of the hand outs and information you get regarding these topics in the same location for easy acces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72" name="Picture 5" descr="b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3048120"/>
            <a:ext cx="914400" cy="1266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small-boombox-ba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9320" y="3276720"/>
            <a:ext cx="1342800" cy="16761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10-4%2520cm%2520felt%2520ba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4572000"/>
            <a:ext cx="1752480" cy="1596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1" descr="bag-manufacturer-uk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24280" y="3505320"/>
            <a:ext cx="1152720" cy="10476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3" descr="Prop%2520Ba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57800" y="4800600"/>
            <a:ext cx="1752480" cy="13906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5" descr="polka-dot-diaper-bag"/>
          <p:cNvPicPr/>
          <p:nvPr/>
        </p:nvPicPr>
        <p:blipFill>
          <a:blip r:embed="rId11"/>
          <a:stretch/>
        </p:blipFill>
        <p:spPr>
          <a:xfrm>
            <a:off x="7391520" y="4572000"/>
            <a:ext cx="13158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Remember……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ALL on the same path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You are not alon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ALL in this together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80" name="Picture 4" descr="MCj02379820000[1]"/>
          <p:cNvPicPr/>
          <p:nvPr/>
        </p:nvPicPr>
        <p:blipFill>
          <a:blip r:embed="rId1"/>
          <a:stretch/>
        </p:blipFill>
        <p:spPr>
          <a:xfrm>
            <a:off x="4876920" y="3352680"/>
            <a:ext cx="3352680" cy="29005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together"/>
          <p:cNvPicPr/>
          <p:nvPr/>
        </p:nvPicPr>
        <p:blipFill>
          <a:blip r:embed="rId2"/>
          <a:stretch/>
        </p:blipFill>
        <p:spPr>
          <a:xfrm>
            <a:off x="1523880" y="3657600"/>
            <a:ext cx="3124440" cy="2455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working%2520together"/>
          <p:cNvPicPr/>
          <p:nvPr/>
        </p:nvPicPr>
        <p:blipFill>
          <a:blip r:embed="rId3"/>
          <a:stretch/>
        </p:blipFill>
        <p:spPr>
          <a:xfrm>
            <a:off x="6324480" y="533520"/>
            <a:ext cx="1863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Object 4"/>
          <p:cNvGraphicFramePr/>
          <p:nvPr/>
        </p:nvGraphicFramePr>
        <p:xfrm>
          <a:off x="0" y="177840"/>
          <a:ext cx="9144000" cy="650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840"/>
                    <a:ext cx="9144000" cy="65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Gears in the System…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irth-12 Certifica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ndividual and Famil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ommunity and Care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cess Skill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amily Focus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Focus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ual Purpose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ow Me Goals and Standard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CCL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grams of Stud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7" name="Picture 6" descr="j0329925"/>
          <p:cNvPicPr/>
          <p:nvPr/>
        </p:nvPicPr>
        <p:blipFill>
          <a:blip r:embed="rId1"/>
          <a:stretch/>
        </p:blipFill>
        <p:spPr>
          <a:xfrm>
            <a:off x="4648320" y="1600200"/>
            <a:ext cx="411480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Program of Study (POS)  -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                                     NOT a Dirty Word!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ahead of other curriculum area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LEADERS and we want to stay that way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rogram credibility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Missouri is the process of seamlessly adopting National Family and Consumer Sciences Standard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National end of program assessments will be put in place at the local level by 2011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ocusing on a career path will provide more opportunities for your students AND your Family and Consumer Sciences program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We need to have this in place, ready to go, because as you well know, Family and Consumer Sciences programs are constantly under scrutiny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1" name="Picture 6" descr="images"/>
          <p:cNvPicPr/>
          <p:nvPr/>
        </p:nvPicPr>
        <p:blipFill>
          <a:blip r:embed="rId1"/>
          <a:stretch/>
        </p:blipFill>
        <p:spPr>
          <a:xfrm>
            <a:off x="5562720" y="1752480"/>
            <a:ext cx="289548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hat Does POS Mean to You?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Missouri has chosen the Career Clusters Framework to organize and implement its programs of study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4" name="Picture 4" descr="MCj03326800000[1]"/>
          <p:cNvPicPr/>
          <p:nvPr/>
        </p:nvPicPr>
        <p:blipFill>
          <a:blip r:embed="rId1"/>
          <a:stretch/>
        </p:blipFill>
        <p:spPr>
          <a:xfrm>
            <a:off x="4572000" y="2971800"/>
            <a:ext cx="36576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4"/>
          <p:cNvGraphicFramePr/>
          <p:nvPr/>
        </p:nvGraphicFramePr>
        <p:xfrm>
          <a:off x="1922400" y="0"/>
          <a:ext cx="512460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0" y="0"/>
                    <a:ext cx="51246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Line 5"/>
          <p:cNvSpPr/>
          <p:nvPr/>
        </p:nvSpPr>
        <p:spPr>
          <a:xfrm flipV="1">
            <a:off x="5410080" y="2209680"/>
            <a:ext cx="2286000" cy="4572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772400" y="1828800"/>
            <a:ext cx="10666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areer Path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9" name="Line 7"/>
          <p:cNvSpPr/>
          <p:nvPr/>
        </p:nvSpPr>
        <p:spPr>
          <a:xfrm flipV="1">
            <a:off x="6248520" y="761760"/>
            <a:ext cx="1600200" cy="759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7924680" y="457200"/>
            <a:ext cx="9144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areer</a:t>
            </a: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luster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6400800" y="3352680"/>
            <a:ext cx="91440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467480" y="3200400"/>
            <a:ext cx="106704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areer Pathwa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20:33:37Z</dcterms:created>
  <dc:creator>Carthage R9</dc:creator>
  <dc:description/>
  <cp:keywords/>
  <dc:language>en-US</dc:language>
  <cp:lastModifiedBy>kelleys</cp:lastModifiedBy>
  <dcterms:modified xsi:type="dcterms:W3CDTF">2008-06-26T22:35:53Z</dcterms:modified>
  <cp:revision>1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81033</vt:lpwstr>
  </property>
</Properties>
</file>